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5FA-D283-433D-97D0-D40D390B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B3E-33DA-4A8A-9BA4-44EAA1EB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EBB-3EFB-40D6-A1B4-314E4463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D2E-0C13-4069-83A0-FDB96B9C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4AB7-3E58-45CF-85BE-5B25C064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3E99-762C-4FE8-B056-E6A17FAA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CCA3-A69E-4011-9D8E-4ECD4372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75E1-78BB-4FB1-BC71-B6D4E85B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D167-5DBD-40D0-A7CC-CAA5286A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50E4-1A5B-4F52-989F-5827E61D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9A40-2E37-40E4-BB1A-225F541F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811-12A0-4ACF-A206-8DA00412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A02E-7BBF-43E7-A175-FEAACB10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6CC4-410F-4C0F-B16D-00464876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AE9E-A4A6-4F66-A484-DB0184F4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3799-6AE2-4DDB-A47C-DFCEA5EC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ADF2-75F6-470F-860E-154A6B9F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767-96F7-4F75-9B56-5AB164AB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65F-38B5-43A8-8E29-4247BE48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0FB-867C-4E77-9131-927CD0BE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C9F-82D5-42F6-9FA0-F5F7297B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73E-7ED5-4A54-96DE-9757C3ED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08E-C993-425A-959F-79A4C057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948-00F2-4662-8427-66C730BF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C6BB-D8CF-4BD3-ACB1-7F2F41EE038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2958-CBDF-478E-93C3-0CA5626C9E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were charging her with murd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claimed she had a motiv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ut until they examine her life as Mrs.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right,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will never understand what happen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Minnie Foster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cole Kidma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Minnie Fos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eanu Reeve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County Attorn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ohnny Depp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the Sheri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ma Thurman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Mrs. Pe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 Pacino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Mr. Ha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ris Robert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Mrs. Ha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rif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20:39:09Z</dcterms:created>
  <dc:creator>jencshu</dc:creator>
  <dc:description/>
  <dc:language>en-US</dc:language>
  <cp:lastModifiedBy>jencshu</cp:lastModifiedBy>
  <dcterms:modified xsi:type="dcterms:W3CDTF">2008-04-06T21:09:41Z</dcterms:modified>
  <cp:revision>2</cp:revision>
  <dc:subject/>
  <dc:title>Slide 1</dc:title>
</cp:coreProperties>
</file>